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EBE-2CA4-4115-9576-A50E21D3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B71-288D-437E-9847-DB146C09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86D-87F5-4129-A3F7-D712A179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31C-EE36-40CD-B42B-54EB0A7C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330A-F811-42C2-BC32-6C58F58D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7406-C5E3-4A51-B7A2-43C493CE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E8BF-97DE-4BC0-8463-6F188816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9E4A-DD8F-4C88-82B6-8313C929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4B88-508D-4D1E-9678-92CA1437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A24B-0293-4F7E-A187-F46093E2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D896-2293-4EF4-8755-1B77F4F0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738-3949-45A7-A7CB-31194CC7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813D-DB55-4AFC-B9A9-F7477EF7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C093-8269-4DAD-84D7-240C5D9D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8D0E-54B2-48E9-B867-9A215AFA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6679-6B50-4F56-9AD0-7DA910B7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322D-243B-4FB9-B70B-8135D590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40B-554A-4917-B23A-0A85C65C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A80-6A4C-4CC4-8098-1561B10B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762-D588-48F6-B080-19EA6132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3E0-43BE-483B-8658-D4DEF80A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FA2-5A49-4546-8221-153E4A51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21B-AC03-4DC7-A542-634F519E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38D-51C8-4A3B-95F5-A37C7FB3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251C-6E37-4A4A-830B-9F754D22FCC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6A78-4CCE-4B77-9194-D4D2A77467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троение атома химических элементов. Периодический закон и систем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11280" y="476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) В пределах подуровня атомные орбитали заполняются одиночными электронами с параллельными спинами, и когда все орбитали данного подуровня будут заняты, происходит спаривание последни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484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492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2987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435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6443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5940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543564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644364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593892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2411280" y="544500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3419640" y="5445000"/>
            <a:ext cx="5029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2914560" y="544500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2484360" y="508464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 flipH="1">
            <a:off x="2484000" y="5084640"/>
            <a:ext cx="1366920" cy="136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5435640" y="508464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H="1">
            <a:off x="5435640" y="508464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79280" y="189000"/>
            <a:ext cx="84981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) Электроны стремятся занять энергетически выгодное положение в электронной оболочке, руководствуясь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авилом наименьшей энерг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им АО в порядке возрастания значений их энергии, которая  определяется суммой: ( № УРОВН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сло,которое соответствует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дуровню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 (0), p (2), d (3),  f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39640" y="189000"/>
            <a:ext cx="86043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1     2    3     3    4     5      4      5     6    7    5     6      7   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s2s2p3s3p3d4s4p4d4f5s5p5d5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6      7     8       9            7       8      9     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s6p6d6f… 7s7p7d7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ЯД НАИМЕНЬШЕЙ ЭНЕРГ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s 2s2p 3s3p 4s3d4p 5s4d5p 6s4f5d6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s5f6d7p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ИТИЧЕСКАЯ ДИАГРАММА РАСПОЛОЖЕНИЯ АО В ЭЛЕКТРОННОЙ ОБОЛ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энергетическая диаграмма атомных уровней и подуровней в многоэлектронном атоме"/>
          <p:cNvPicPr/>
          <p:nvPr/>
        </p:nvPicPr>
        <p:blipFill>
          <a:blip r:embed="rId1"/>
          <a:stretch/>
        </p:blipFill>
        <p:spPr>
          <a:xfrm>
            <a:off x="1979640" y="1125360"/>
            <a:ext cx="52815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ХЕМА СТРОЕНИЯ АТО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уровням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3"/>
          <p:cNvSpPr/>
          <p:nvPr/>
        </p:nvSpPr>
        <p:spPr>
          <a:xfrm>
            <a:off x="3276720" y="2852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334800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ННАЯ ФОРМУЛА (КОНФИГУРАЦИЯ) АТО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8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по подуровн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ННО - ГРАФИЧЕСКАЯ ФОРМУЛА АТО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по А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924360" y="278136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79311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ормулировка периодического закона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.И. Менделеева 1869 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-360" y="2420640"/>
            <a:ext cx="86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войства х/э и образованных ими веществ находятся в периодической зависимости от относительных атомных масс элемент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20561"/>
                </a:solidFill>
                <a:latin typeface="Arial"/>
              </a:rPr>
              <a:t>2.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овременная формулировка периодического закона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Свойства х/э и образованных ими веществ находятся в периодической зависимости от зарядов их атомных яде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кономерности изменения некоторых свойств химических элементов в ПС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1752480"/>
          <a:ext cx="9144000" cy="55612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еделах пери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еделах одной группы (для элементов главных подгруп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Заряд ядра ат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нергетических уров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Не изменя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лектронов на внешнем энергетическом уров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Не изменя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диус ат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осстановительные 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Металлические 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57520" y="1999800"/>
            <a:ext cx="33289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это частица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572080" y="3214440"/>
            <a:ext cx="22003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0,9109534*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=1,602189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*10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-19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К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4357440" y="321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2" descr=""/>
          <p:cNvPicPr/>
          <p:nvPr/>
        </p:nvPicPr>
        <p:blipFill>
          <a:blip r:embed="rId1"/>
          <a:srcRect l="1512" t="32070" r="31983" b="31205"/>
          <a:stretch/>
        </p:blipFill>
        <p:spPr>
          <a:xfrm>
            <a:off x="214200" y="0"/>
            <a:ext cx="47149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228600" y="3622680"/>
          <a:ext cx="8686800" cy="3235320"/>
        </p:xfrm>
        <a:graphic>
          <a:graphicData uri="http://schemas.openxmlformats.org/drawingml/2006/table">
            <a:tbl>
              <a:tblPr/>
              <a:tblGrid>
                <a:gridCol w="4343400"/>
                <a:gridCol w="2279520"/>
                <a:gridCol w="20638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нукло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=11, n=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=17,n=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лектро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=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=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нергетических уров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Электронная форму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ысшая степень окис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Окислительно-восстановительные 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Окисл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43" name="Picture 2" descr="Картинка 18 из 116079"/>
          <p:cNvPicPr/>
          <p:nvPr/>
        </p:nvPicPr>
        <p:blipFill>
          <a:blip r:embed="rId1"/>
          <a:stretch/>
        </p:blipFill>
        <p:spPr>
          <a:xfrm>
            <a:off x="0" y="0"/>
            <a:ext cx="2666880" cy="2546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оложение элемента в ПС и строение его ат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6" descr="Картинка 9 из 2591"/>
          <p:cNvPicPr/>
          <p:nvPr/>
        </p:nvPicPr>
        <p:blipFill>
          <a:blip r:embed="rId4"/>
          <a:srcRect l="0" t="0" r="55" b="0"/>
          <a:stretch/>
        </p:blipFill>
        <p:spPr>
          <a:xfrm>
            <a:off x="5410080" y="0"/>
            <a:ext cx="3733920" cy="25700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91440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7aff"/>
                </a:solidFill>
                <a:latin typeface="Arial"/>
              </a:rPr>
              <a:t>ПЛАН ХАРАКТЕРИСТИКИ ХИМ. ЭЛЕМЕН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3581280"/>
          <a:ext cx="9144000" cy="3276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Типичный металл; металлическая кристаллическая решётка; в соединениях тип связи - металлически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Типичный неметалл; газ жёлтого цве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48" name="Picture 4" descr="Картинка 1 из 117072"/>
          <p:cNvPicPr/>
          <p:nvPr/>
        </p:nvPicPr>
        <p:blipFill>
          <a:blip r:embed="rId1"/>
          <a:stretch/>
        </p:blipFill>
        <p:spPr>
          <a:xfrm>
            <a:off x="0" y="0"/>
            <a:ext cx="4952880" cy="3581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Картинка 17 из 60692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3543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91440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. Характер простого вещества (металл, неметалл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school.xvatit.com/images/0/07/Him7_5_5.jpg"/>
          <p:cNvPicPr/>
          <p:nvPr/>
        </p:nvPicPr>
        <p:blipFill>
          <a:blip r:embed="rId1"/>
          <a:srcRect l="58318" t="8084" r="33115" b="0"/>
          <a:stretch/>
        </p:blipFill>
        <p:spPr>
          <a:xfrm>
            <a:off x="7620120" y="0"/>
            <a:ext cx="1523880" cy="51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0" y="4876920"/>
          <a:ext cx="9144000" cy="1828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Металлические свойства натрия выражены сильнее, чем у лития, но слабее, по сравнению с кали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 хлора по сравнению со фтором неметаллические свойства выражены слабее, но по сравнению с бромом эти свойства выражены сильне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53" name="Picture 4" descr="http://school.xvatit.com/images/0/07/Him7_5_5.jpg"/>
          <p:cNvPicPr/>
          <p:nvPr/>
        </p:nvPicPr>
        <p:blipFill>
          <a:blip r:embed="rId2"/>
          <a:srcRect l="2160" t="0" r="84954" b="13925"/>
          <a:stretch/>
        </p:blipFill>
        <p:spPr>
          <a:xfrm>
            <a:off x="0" y="0"/>
            <a:ext cx="1676520" cy="48769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267840"/>
            <a:ext cx="6553080" cy="46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a7aff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5a7aff"/>
                </a:solidFill>
                <a:latin typeface="Arial"/>
              </a:rPr>
              <a:t>. Сравнение свойств простого вещества со свойствами простых веществ, образованных соседними по подгруппе элемент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68200"/>
            <a:ext cx="9144000" cy="23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a7aff"/>
                </a:solidFill>
                <a:latin typeface="Arial"/>
              </a:rPr>
              <a:t>4. Сравнение свойств простого вещества со свойствами простых веществ, образованных соседними по периоду элемент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4648320"/>
          <a:ext cx="9144000" cy="2209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Металлические свойства натрия выражены сильнее, чем у маг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 хлора по сравнению с серой металлические свойства выражены слабе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57" name="Picture 2" descr="Картинка 16 из 643"/>
          <p:cNvPicPr/>
          <p:nvPr/>
        </p:nvPicPr>
        <p:blipFill>
          <a:blip r:embed="rId1"/>
          <a:srcRect l="0" t="30315" r="0" b="40198"/>
          <a:stretch/>
        </p:blipFill>
        <p:spPr>
          <a:xfrm>
            <a:off x="0" y="3048120"/>
            <a:ext cx="9198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5. Формула высшего оксида и его кислотно-основные свойств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82800"/>
          <a:ext cx="9144000" cy="2108160"/>
        </p:xfrm>
        <a:graphic>
          <a:graphicData uri="http://schemas.openxmlformats.org/drawingml/2006/table">
            <a:tbl>
              <a:tblPr/>
              <a:tblGrid>
                <a:gridCol w="4408560"/>
                <a:gridCol w="473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8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Оксид натрия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2O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проявляет основные свойства.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му соответствует основание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OH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= 2Na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+ 2HCl = 2NaCl 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+ S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= 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ысший оксид хлора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2O7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является кислотным оксидом. Ему соответствует кислота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O4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= 2HCl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+ 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= 2NaCl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+ 2NaOH = 2NaCl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2" descr="Картинка 2 из 258"/>
          <p:cNvPicPr/>
          <p:nvPr/>
        </p:nvPicPr>
        <p:blipFill>
          <a:blip r:embed="rId1"/>
          <a:stretch/>
        </p:blipFill>
        <p:spPr>
          <a:xfrm>
            <a:off x="4572000" y="403848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Картинка 1 из 736"/>
          <p:cNvPicPr/>
          <p:nvPr/>
        </p:nvPicPr>
        <p:blipFill>
          <a:blip r:embed="rId2"/>
          <a:srcRect l="0" t="0" r="57" b="0"/>
          <a:stretch/>
        </p:blipFill>
        <p:spPr>
          <a:xfrm>
            <a:off x="0" y="4071960"/>
            <a:ext cx="29718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a7aff"/>
                </a:solidFill>
                <a:latin typeface="Arial"/>
              </a:rPr>
              <a:t>6. Формула высшего гидроксида, его кислотно-основные свой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882800"/>
          <a:ext cx="8229600" cy="2382840"/>
        </p:xfrm>
        <a:graphic>
          <a:graphicData uri="http://schemas.openxmlformats.org/drawingml/2006/table">
            <a:tbl>
              <a:tblPr/>
              <a:tblGrid>
                <a:gridCol w="4191120"/>
                <a:gridCol w="40384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Гидроксид натрия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OH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, является сильным основанием и проявляет свойства , характерные для основ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OH + HCl = NaCl +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NaOH + CO2 = Na2CO3 +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NaOH + CuCl2 = Cu(OH)2 + 2Na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лорная кислота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O4 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роявляет свойства сильной кисло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O2 + KOH = KClO4 +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6" descr="Файл:Sodium-hydroxide-crystal-3D-vdW.png"/>
          <p:cNvPicPr/>
          <p:nvPr/>
        </p:nvPicPr>
        <p:blipFill>
          <a:blip r:embed="rId1"/>
          <a:stretch/>
        </p:blipFill>
        <p:spPr>
          <a:xfrm>
            <a:off x="0" y="4237200"/>
            <a:ext cx="3486240" cy="2620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Картинка 6 из 5918"/>
          <p:cNvPicPr/>
          <p:nvPr/>
        </p:nvPicPr>
        <p:blipFill>
          <a:blip r:embed="rId2"/>
          <a:stretch/>
        </p:blipFill>
        <p:spPr>
          <a:xfrm>
            <a:off x="3352680" y="4241880"/>
            <a:ext cx="3276720" cy="2616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http://dic.academic.ru/pictures/wiki/files/112/perchloric-acid-3d-vdw.png"/>
          <p:cNvPicPr/>
          <p:nvPr/>
        </p:nvPicPr>
        <p:blipFill>
          <a:blip r:embed="rId3"/>
          <a:stretch/>
        </p:blipFill>
        <p:spPr>
          <a:xfrm>
            <a:off x="6343560" y="4267080"/>
            <a:ext cx="2800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7.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Формула летучего водородного соеди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52480"/>
          <a:ext cx="9144000" cy="213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Не образует летучего водородного соедине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 – </a:t>
                      </a:r>
                      <a:r>
                        <a:rPr b="1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лороводород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2" descr="Картинка 2 из 615"/>
          <p:cNvPicPr/>
          <p:nvPr/>
        </p:nvPicPr>
        <p:blipFill>
          <a:blip r:embed="rId1"/>
          <a:srcRect l="0" t="0" r="0" b="18"/>
          <a:stretch/>
        </p:blipFill>
        <p:spPr>
          <a:xfrm>
            <a:off x="4572000" y="3052800"/>
            <a:ext cx="45720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– волна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 обладает большой СКОРОСТЬЮ и ЭНЕРГИЕ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долю секунды электрон способен «обежать» целую область пространства, называем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4140360" y="2781360"/>
            <a:ext cx="720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WordArt 8"/>
          <p:cNvSpPr txBox="1"/>
          <p:nvPr/>
        </p:nvSpPr>
        <p:spPr>
          <a:xfrm>
            <a:off x="2484360" y="515772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ОЕ ОБЛАК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34000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АТОМНАЯ ОРБИТ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042920" y="-100080"/>
            <a:ext cx="7129440" cy="73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стоположение электронов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 пространстве в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анный момен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ремени определить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возмож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и ведут себя примерно так, как описал Льюис Кэрролл Чеширского Кота  в сказке «Алиса в стране чудес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оде бы он здесь, но в тоже время его нет, осталась лишь улыбка…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пример с фотографи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ы электронных облак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908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900000" y="1484280"/>
            <a:ext cx="1133640" cy="62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-,p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6" name="Picture 6" descr="image2"/>
          <p:cNvPicPr/>
          <p:nvPr/>
        </p:nvPicPr>
        <p:blipFill>
          <a:blip r:embed="rId1"/>
          <a:stretch/>
        </p:blipFill>
        <p:spPr>
          <a:xfrm>
            <a:off x="2268360" y="1197000"/>
            <a:ext cx="6715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900000" y="5716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электроны атома образуют 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1409760" y="1285920"/>
            <a:ext cx="630540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ННУЮ ОБОЛОЧ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286000" y="2714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ННАЯ ОБОЛО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ИТСЯ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Прямоугольник 4" descr=""/>
          <p:cNvPicPr/>
          <p:nvPr/>
        </p:nvPicPr>
        <p:blipFill>
          <a:blip r:embed="rId1"/>
          <a:stretch/>
        </p:blipFill>
        <p:spPr>
          <a:xfrm>
            <a:off x="1835280" y="3144960"/>
            <a:ext cx="4492440" cy="11030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3071880" y="42148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 flipV="1" rot="10800000">
            <a:off x="2239920" y="461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ВЕСТНО 7 ЭНЕРГЕТИЧЕСКИХ УРОВНЕ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ЛОЖЕННЫХ НА РАЗНЫХ РАССТОЯНИЯХ ОТ Я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324000" y="83664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уровень –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, d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468360" y="4149720"/>
            <a:ext cx="3887640" cy="2519280"/>
          </a:xfrm>
          <a:prstGeom prst="rightArrowCallout">
            <a:avLst>
              <a:gd name="adj1" fmla="val 25002"/>
              <a:gd name="adj2" fmla="val 25000"/>
              <a:gd name="adj3" fmla="val 25719"/>
              <a:gd name="adj4" fmla="val 6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 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6 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7 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284720" y="4843440"/>
            <a:ext cx="417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, 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… подуров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24000" y="333360"/>
            <a:ext cx="8569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1 А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-подуровень      3 АО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5 А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 7 А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ТАК, име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2s2p3s3p3d4s4p4d4f5s5p5d5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s6p6d6f…7s7p7d7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651640" y="404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65164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15636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665964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5651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615636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659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716436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7667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651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615636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59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16436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7667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8172360" y="2852640"/>
            <a:ext cx="5050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863928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250920" y="476280"/>
            <a:ext cx="864216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АВИЛА ЗАПОЛНЕНИЯ ЭЛЕКТРОНАМИ АО,  ПОДУРОВНЕЙ, УРОВ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На одной АО могут находиться только ДВА электрона, которые вращаются вокруг своей оси в противоположных направлениях (по часовой стрелке и против часовой стрелке) – электроны с противоположным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ин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419640" y="537372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419640" y="551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5:41:28Z</dcterms:created>
  <dc:creator>Шабалина Е.А.</dc:creator>
  <dc:description/>
  <dc:language>en-US</dc:language>
  <cp:lastModifiedBy>Admin</cp:lastModifiedBy>
  <dcterms:modified xsi:type="dcterms:W3CDTF">2012-12-20T11:22:15Z</dcterms:modified>
  <cp:revision>10</cp:revision>
  <dc:subject/>
  <dc:title>ЧТО ТАКОЕ</dc:title>
</cp:coreProperties>
</file>